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72367-9753-48A1-BBBC-317ECD96ABB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F7B99-A06B-4484-BC1E-A1D5CEE7266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6B6DB-8774-4FD8-96BF-45B088B4CD0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7F354-ECA9-44B0-85DB-2E47C5F2E76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7137B-86F8-4572-B0B7-9EEB15F517B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1BF59-77FF-406B-A4A3-4328150D21A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376C-5B04-4884-92BD-F6C48DF5BBB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84AE8-1B45-4007-916E-079C098A0E5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15B91-DAD1-4BBF-9C1C-16CCC972526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488-B952-4E83-8AAE-57636E40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F51-3D96-41FF-A1D4-1DE2CEB1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5EF46-CD57-4F32-AECA-48582D84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BA566-F6DC-4145-AA69-3E43C19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D7DC7-B1DB-4CE7-86CC-1017B87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01679-24B9-4034-B12E-8736276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4B227-A561-4655-A272-2C048E64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64EC-5650-43F6-B098-99D1F95A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A5125-E999-486B-A1F6-FF532AF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ECE3F-DCC0-4EA9-9E41-8E48C8B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02D0C-23A4-47B7-ABBA-361152BC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50282-93C6-4C7B-AC44-E0AD5576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0FB-A609-4EF2-9AF5-F73456B8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B1568-3DFE-487F-9503-7F9A30E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0B8F6-D378-4897-A697-EED6F2E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5D369-7B72-4029-B504-B6B653EE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09BFF-81B4-45D4-A40B-A0D7D0B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E6469-125E-47FB-918B-39E5BB0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EC86-BAB2-4EB4-8FA2-9FE4F98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4D196-C7EC-42BF-85E5-9EC4BE6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0A798-0A17-4D12-BD02-25F6E6B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7CDA8-9253-4187-91FA-11DEC69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FC856-8B71-41C0-8BB5-A8D11C50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CEF-78D4-44D3-9256-F49D53DD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C9BEB-B3A0-4E79-98C8-EF32E145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06BDC-DE1E-4E70-BB5F-A6BB4231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ADDE-59CE-40C2-9942-691A3DF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82FB-0CD0-47CA-A78D-8D4D5CF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A68B6-9D18-47FF-87E1-FF5BFF90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F7D93-47A5-4FE5-90C8-BDC8D27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2F8C-A2D5-4F21-9EB8-C59362E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2E5B-C879-4A28-BDA9-FE7E8D6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81D0-BAC6-4070-B073-C195A9AD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2160F-31D1-423E-A67A-6E36623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BE8-80E5-4918-9FF7-77494123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6D93-1367-427F-9434-B1DCB8A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96D2-7E39-4FE6-BA28-80BF01D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CC6B9-64A0-4E82-924E-2475FA25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5E3B-B25F-409A-AFA5-4C03F19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D26D-F233-4FB3-BEA1-8B6722A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04A1-3557-4408-9F79-0C3AA2F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9B9-5531-4483-BB31-D093EF53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72C-878C-4C64-BED8-D989077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6B3-C75C-4944-BE0A-690DB5B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4CF-9853-4B9E-9F90-5649F3A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960F-2C2D-4256-8959-8530E16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5778-777B-4B58-824E-34A17DA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82DB-20C2-46B4-80FF-4BD8A27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2F6B-086D-4255-AC9C-430F7F5C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D8EB-A381-4928-959B-DD8A5280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E50D-6B83-406C-81BC-854D3ED4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73F0-A480-4909-BB9D-3F2CA86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7FE3-92B3-4928-8F45-D2D79C4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FA1E-C9E0-4021-93CE-EC8F932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49A5-D831-4F7D-A9BD-9EC44B5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E83-5BBA-4043-AC37-48F6376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211F-D083-4175-8C6A-66B282E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5339-115D-4940-BD82-C2F738C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81F4-AB47-4FFF-A614-CB71223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E4D1-BD06-4ACA-BD61-473D1067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45FD-5374-4D19-9782-2314E77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73CA-B493-4056-A33A-A4A3643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5575-B8B1-4EA2-8F31-56DF392E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64FF-A46E-402E-B312-92E244D2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3F92-B481-4875-B322-A1D9E002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52B7-D7E4-4BF4-B92C-D082726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AE0-96E3-446E-8A00-727DBDB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32BA1-3113-4637-9F06-95AB1CB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1A43-0EF9-4C00-A9AE-58A283C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6AEE-EEC6-422C-B411-DD31448E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787A-7813-4CB2-851D-7A1CD3B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6219-C2DC-464D-88A6-9E8D23A9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EA73-0BAC-4353-BA89-54D4ED9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217D-83DD-4D78-BFDA-08299CB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B110-9992-451F-896E-F418670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34C4-4D22-4D86-B24E-D72D0B03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EBF7-5E06-480E-886D-3419B405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A4B-187E-47EB-83DE-264B7E2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F8D3-73B4-4E86-A8F8-EF20985E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4A27-B33F-4A02-8781-681ADE69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1B6F-AA6B-4B74-A3C1-293065D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96CA-FF64-452D-AF8A-238B183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EB58-6F75-45C8-B430-E5B48C03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C3AB-5095-43DC-ACC6-9D9C14A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76F4-181B-4CDD-A3CA-383E89D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4BA8-3A84-4B3D-9D60-C7D6653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FC95-58FE-482E-8DB3-6629A9E3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C748-B739-4600-BC05-1189B11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91F-CEE6-4C52-B41B-06CE166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590B-E301-4C43-97BC-4CBE2F36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A3684-4153-47C3-8B3E-E5659BA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7B5BA-8E2C-4347-9985-63002D0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F0F8B-C2AC-4D33-B0F4-D1F719C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5CD24-D200-434A-A30D-A6EE0730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B551-D36E-48AD-94BB-B1FF90D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E647-3C42-4E21-896A-F2082F1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BC81-CC41-4B53-87B7-016398C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C90D-28F2-4220-848E-0905BD7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23DF-CAAD-423C-8A96-5F00925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ADD-063E-4D42-8F4E-10130E95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6CB5A-3BBF-4442-AA8F-D0454CF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B58C-7D83-4C77-B474-2CCA5556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6A63-D2F7-479B-88DB-47D0ED55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997A-DB60-4D53-8D72-58FE21D1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9B8E-C9FA-4D69-A511-98E24FB6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8C7D-1DB4-4587-A0C4-95B439C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B610-D40B-4AAA-B887-47F99BA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1C40-2555-45BD-A43A-DAFA4586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C128-1C2E-4D9F-B387-6773EF9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CEFF-734F-40E1-BD8A-9679C0E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925-8910-403B-B994-0CB99DD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5C6C-B06E-40AF-A1E1-E32790E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AD21-5B3A-4E1F-89C5-6DEDD5F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7456-2ECE-4165-A999-63007B9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3DD2-0C6D-4D69-8411-7A51A505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B350-B2AF-428A-B7D1-37C53015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C670-D4DE-4D45-8596-5436A2B4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E2EB-91C6-43DC-B7DE-096F7F66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6F34A-B908-4C63-B248-B3F1503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83031-96DC-48B5-854A-6CFBC02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6754-7A5B-4740-941E-B12EFA61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6A3-98B4-4A14-A5F5-B4C5653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5626-8335-49C5-8D8E-3CBB35B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5E7B-46D7-4134-8DEC-C7F41874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8B38-7F01-4BAA-B009-C3E6F77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F9B6-14B7-4725-ABB1-49BE742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C5BE1-D1B8-4C5E-A6F4-C183B55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7FDC-EC8A-442C-AA8A-86A34704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DC65F-36FB-41A4-BAB5-D5AF7EB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6950B-8B20-43F1-8B81-E2EA63F5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3D890-4296-42DD-B170-4F381FE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28E2-5B4D-4E78-97F0-0D2B180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CF42D-549E-46AD-8861-690BD028AE3F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4AF2E-9462-4C14-B39C-53BB9CF7817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132A3-D9B8-449D-A529-B7FCB572CDC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A26B3-4751-4046-944C-CCC8DFF73874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BF4FD-4A53-49DD-B6BA-6FCE16A0E012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BB46F-E669-4DB7-8216-3DA1C30A036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B3EC4-82EB-4F41-8404-ABE7ADFB581C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84C25-DAC3-4265-9A5D-0059E063B0A0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864D6-7265-41E8-95D2-6439BF3B171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1EF3A-ABEB-494C-B59D-0372101AD107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44511-D7FB-46FA-8E0E-9526B50E2BA9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FINANČNO POSLOVANJE OŠ STIČNA V LETU 20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9640" y="119700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Iz sredstev občinskega proračuna – občine Ivančna Goric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00.438,06 €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94.081,12 € - sanacija prostorov na podružnični šoli Stična – direktno Občina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4.957,20 € - kuhinjska oprema na podružnični šoli Stičn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6.209,91 € - preureditev kleti šole v učilnico na podružnični šoli Zagradec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8.597,68 € - nova cisterne za kurilno olje na podružnični šoli Višnja Gora  -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356,20 € - oprema nove učilnice na podružnični šoli v Zagradcu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593,30 € - oprema učilnice na podružnični šoli Višnja Gor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199,68 € - računalniška oprema za novi učilnici – Zagradec, Višnja Gor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1.163,47 € - nakup računalniške opreme in ureditev dostopnih točk iz naslova projekta SIO202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279,50 € - obnova varnostne razsvetljave na podružnični šoli Kr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državnega proračuna – MIZŠ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79,4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(učila, knjige, učbeniki, strokovna literatura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presežka preteklih let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5.114,71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projekta SIO 2020 (Arnes)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3.267,04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lastnih sredstev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2.490,05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šolskega sklad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5.676,07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0920" y="1988640"/>
            <a:ext cx="7705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uporabnin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889,39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donacije Spar – knjižnično gradivo za podružnično šolo Ambrus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382,6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tripartitne pogodbe MIZŠ – Arnes – OŠ Stičn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7.886,0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Arnes - donacija prenosnih računalnikov za VIZ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12.648,68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acija Rok – donacija prenosnih računalnikov za učence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5.134,36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–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olanje na daljav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ravokotnik 2"/>
          <p:cNvSpPr/>
          <p:nvPr/>
        </p:nvSpPr>
        <p:spPr>
          <a:xfrm>
            <a:off x="684360" y="2708280"/>
            <a:ext cx="770400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z sredstev presežka prihodkov nad odhodki preteklih let, ki so bila namenjena vzdrževalnim delom je bilo  letu 2020 izvedeno akustična izolacija stropa v hodniku na matični šoli v vrednosti 16.896,98 €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VEČJE VZDRŽEVALNO D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ravokotnik 2"/>
          <p:cNvSpPr/>
          <p:nvPr/>
        </p:nvSpPr>
        <p:spPr>
          <a:xfrm>
            <a:off x="611280" y="2060640"/>
            <a:ext cx="77770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 letu 2020 je bilo poslovanje Osnovne šole Stična naslednj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znašali 6.331.440,64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DHODKI  so znašali 6.287.719,78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ar pomeni, da je bil ugotovljen presežek prihodkov nad odhodki v vrednosti 43.720,86 €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ravokotnik 2"/>
          <p:cNvSpPr/>
          <p:nvPr/>
        </p:nvSpPr>
        <p:spPr>
          <a:xfrm>
            <a:off x="611280" y="2106720"/>
            <a:ext cx="7777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pridobljeni iz več virov, njihova sestava pa je v odstotkih nasledn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ržavni proračun (MIZŠ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6,53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činski proračun (občina Iv. Gorica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,1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spevek starš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4,80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žna dejav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0,38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i vir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2,15 %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drugi uporabniki javnih sredstev, Vrtec Iv. G. (plačilo malic na Krki in v Zagradcu)…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PRIHOD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3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Grafikon 5"/>
          <p:cNvGraphicFramePr/>
          <p:nvPr/>
        </p:nvGraphicFramePr>
        <p:xfrm>
          <a:off x="1278000" y="717480"/>
          <a:ext cx="6872400" cy="492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6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8000" y="717480"/>
                    <a:ext cx="68724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ravokotnik 2"/>
          <p:cNvSpPr/>
          <p:nvPr/>
        </p:nvSpPr>
        <p:spPr>
          <a:xfrm>
            <a:off x="611280" y="2106720"/>
            <a:ext cx="777708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državnega proračuna (MIZŠ)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aterialni stroški v skladu z normativi in standardi, nabava učil in učnih pripomočkov,  izobraževanje delavcev, zdravstveni pregledi zaposlenih, delno pokrivanje ekskurzij učencev, subvencioniranje šolske prehrane, sofinanciranje ene šole v naravi, nabava učbenikov za šolski skla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ill Sans MT"/>
              </a:rPr>
              <a:t>PRIHODKI IZ DRŽAVNEGA PRORAČU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0" name="Grafikon 4"/>
          <p:cNvGraphicFramePr/>
          <p:nvPr/>
        </p:nvGraphicFramePr>
        <p:xfrm>
          <a:off x="82692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Grafikon 5"/>
          <p:cNvGraphicFramePr/>
          <p:nvPr/>
        </p:nvGraphicFramePr>
        <p:xfrm>
          <a:off x="1463760" y="1434960"/>
          <a:ext cx="6543720" cy="472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3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3760" y="1434960"/>
                    <a:ext cx="6543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DRŽAVN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MINISTRSTVA ZA IZOBRAŽEVANJE, ZNANOST IN Š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ravokotnik 2"/>
          <p:cNvSpPr/>
          <p:nvPr/>
        </p:nvSpPr>
        <p:spPr>
          <a:xfrm>
            <a:off x="755640" y="1854360"/>
            <a:ext cx="777708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občinskega proračuna občine Ivančna Gorica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9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škov uporabe prostora in opreme – zavarovanje objektov in opreme, elektrika, voda, odvoz smeti, varovanje objekta, vzdrževanje dvigala, kurjava, material in storitve za vzdrževanje prostora, gorivo in stroški vzdrževanja avtomobila za dodatne prevoze učencev – Hyunda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 za določen delež zaposlenih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VA ZA PREVOZE UČENCEV V ŠOLO IN IZ ŠOLE PA ZAGOTAVLJA OBČINA DIREKTNO PREKO IZVEDENEGA JAVNEGA NAROČIL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960"/>
            <a:ext cx="6442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PRIHODKI IZ OBČINSKEGA PRORAČUNA – OBČINA IVANČNA GORIC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8" name="Grafikon 4"/>
          <p:cNvGraphicFramePr/>
          <p:nvPr/>
        </p:nvGraphicFramePr>
        <p:xfrm>
          <a:off x="86364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9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Grafikon 5"/>
          <p:cNvGraphicFramePr/>
          <p:nvPr/>
        </p:nvGraphicFramePr>
        <p:xfrm>
          <a:off x="1857240" y="1865160"/>
          <a:ext cx="5573880" cy="391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865160"/>
                    <a:ext cx="55738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OBČINSK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OBČINE IVANČNA GOR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34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Grafikon 5"/>
          <p:cNvGraphicFramePr/>
          <p:nvPr/>
        </p:nvGraphicFramePr>
        <p:xfrm>
          <a:off x="1136520" y="912960"/>
          <a:ext cx="6389640" cy="479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912960"/>
                    <a:ext cx="638964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56:02Z</dcterms:created>
  <dc:creator>Zajc</dc:creator>
  <dc:description/>
  <dc:language>en-US</dc:language>
  <cp:lastModifiedBy>Melita</cp:lastModifiedBy>
  <dcterms:modified xsi:type="dcterms:W3CDTF">2021-03-24T10:16:11Z</dcterms:modified>
  <cp:revision>146</cp:revision>
  <dc:subject/>
  <dc:title>POROČILO  o realizaciji LDN za  šol. l. 2010/2011</dc:title>
</cp:coreProperties>
</file>